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6654-DAD0-4A43-B59F-D85769AF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B33E-5B1B-415A-865F-CA1AA98E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537B-472B-4D94-8649-A3555B8B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7A9-3924-44DC-A475-EF55F9CE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2A5-D1B1-4944-9B24-AB40BDA9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009-ED24-4D0F-85ED-79D4B62D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4C23-89B9-49B2-ADDB-EE393EA9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ED0-7EB5-45AC-B5E8-7BB9E2D2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681-7C60-4B64-BB9E-4E075A88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C1CA-518E-4B5E-91D1-338365FC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72D-8418-40DC-B49D-A0F727E3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2CEA-CA18-43B0-A374-BE1F5018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12D7-BF52-41B5-B3AB-4C515FB4D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nstitute.redlands.edu/sd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patial Decision Support Knowledge Portal</a:t>
            </a:r>
            <a:br>
              <a:rPr sz="4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tp://institute.redlands.edu/s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 Raskin, Jet Propulsion Laborato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icong Li, U. of Redlands</a:t>
            </a:r>
            <a:br>
              <a:rPr sz="18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IP Federation Summer 2009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833400" y="622440"/>
            <a:ext cx="73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S Knowledge Re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43000" y="127800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592200"/>
            <a:ext cx="8731080" cy="61894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22"/>
          <p:cNvGrpSpPr/>
          <p:nvPr/>
        </p:nvGrpSpPr>
        <p:grpSpPr>
          <a:xfrm>
            <a:off x="2590920" y="3335400"/>
            <a:ext cx="4231800" cy="380880"/>
            <a:chOff x="2590920" y="3335400"/>
            <a:chExt cx="4231800" cy="380880"/>
          </a:xfrm>
        </p:grpSpPr>
        <p:sp>
          <p:nvSpPr>
            <p:cNvPr id="62" name="Oval 6"/>
            <p:cNvSpPr/>
            <p:nvPr/>
          </p:nvSpPr>
          <p:spPr>
            <a:xfrm>
              <a:off x="2590920" y="3335400"/>
              <a:ext cx="17524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Box 9"/>
            <p:cNvSpPr/>
            <p:nvPr/>
          </p:nvSpPr>
          <p:spPr>
            <a:xfrm>
              <a:off x="4424400" y="3335400"/>
              <a:ext cx="23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natural language te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20"/>
          <p:cNvGrpSpPr/>
          <p:nvPr/>
        </p:nvGrpSpPr>
        <p:grpSpPr>
          <a:xfrm>
            <a:off x="2590920" y="973080"/>
            <a:ext cx="2035080" cy="380880"/>
            <a:chOff x="2590920" y="973080"/>
            <a:chExt cx="2035080" cy="380880"/>
          </a:xfrm>
        </p:grpSpPr>
        <p:sp>
          <p:nvSpPr>
            <p:cNvPr id="65" name="Oval 9"/>
            <p:cNvSpPr/>
            <p:nvPr/>
          </p:nvSpPr>
          <p:spPr>
            <a:xfrm>
              <a:off x="2590920" y="1049040"/>
              <a:ext cx="60948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Box 11"/>
            <p:cNvSpPr/>
            <p:nvPr/>
          </p:nvSpPr>
          <p:spPr>
            <a:xfrm>
              <a:off x="3204720" y="973080"/>
              <a:ext cx="14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bbre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oup 21"/>
          <p:cNvGrpSpPr/>
          <p:nvPr/>
        </p:nvGrpSpPr>
        <p:grpSpPr>
          <a:xfrm>
            <a:off x="2590920" y="2116080"/>
            <a:ext cx="5706000" cy="457200"/>
            <a:chOff x="2590920" y="2116080"/>
            <a:chExt cx="5706000" cy="457200"/>
          </a:xfrm>
        </p:grpSpPr>
        <p:sp>
          <p:nvSpPr>
            <p:cNvPr id="68" name="Oval 12"/>
            <p:cNvSpPr/>
            <p:nvPr/>
          </p:nvSpPr>
          <p:spPr>
            <a:xfrm>
              <a:off x="2590920" y="2116080"/>
              <a:ext cx="441972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Box 13"/>
            <p:cNvSpPr/>
            <p:nvPr/>
          </p:nvSpPr>
          <p:spPr>
            <a:xfrm>
              <a:off x="7089120" y="2116080"/>
              <a:ext cx="12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synony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23"/>
          <p:cNvGrpSpPr/>
          <p:nvPr/>
        </p:nvGrpSpPr>
        <p:grpSpPr>
          <a:xfrm>
            <a:off x="2666880" y="5850000"/>
            <a:ext cx="2124720" cy="380880"/>
            <a:chOff x="2666880" y="5850000"/>
            <a:chExt cx="2124720" cy="380880"/>
          </a:xfrm>
        </p:grpSpPr>
        <p:sp>
          <p:nvSpPr>
            <p:cNvPr id="71" name="Oval 15"/>
            <p:cNvSpPr/>
            <p:nvPr/>
          </p:nvSpPr>
          <p:spPr>
            <a:xfrm>
              <a:off x="2666880" y="5850000"/>
              <a:ext cx="12952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Box 15"/>
            <p:cNvSpPr/>
            <p:nvPr/>
          </p:nvSpPr>
          <p:spPr>
            <a:xfrm>
              <a:off x="4116960" y="586080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24"/>
          <p:cNvGrpSpPr/>
          <p:nvPr/>
        </p:nvGrpSpPr>
        <p:grpSpPr>
          <a:xfrm>
            <a:off x="2743200" y="5240160"/>
            <a:ext cx="3420360" cy="533520"/>
            <a:chOff x="2743200" y="5240160"/>
            <a:chExt cx="3420360" cy="533520"/>
          </a:xfrm>
        </p:grpSpPr>
        <p:sp>
          <p:nvSpPr>
            <p:cNvPr id="74" name="Oval 18"/>
            <p:cNvSpPr/>
            <p:nvPr/>
          </p:nvSpPr>
          <p:spPr>
            <a:xfrm>
              <a:off x="2743200" y="5240160"/>
              <a:ext cx="18288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Box 17"/>
            <p:cNvSpPr/>
            <p:nvPr/>
          </p:nvSpPr>
          <p:spPr>
            <a:xfrm>
              <a:off x="4652280" y="53161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ecision 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23"/>
          <p:cNvGrpSpPr/>
          <p:nvPr/>
        </p:nvGrpSpPr>
        <p:grpSpPr>
          <a:xfrm>
            <a:off x="2666880" y="6165720"/>
            <a:ext cx="2264760" cy="370080"/>
            <a:chOff x="2666880" y="6165720"/>
            <a:chExt cx="2264760" cy="370080"/>
          </a:xfrm>
        </p:grpSpPr>
        <p:sp>
          <p:nvSpPr>
            <p:cNvPr id="77" name="Oval 24"/>
            <p:cNvSpPr/>
            <p:nvPr/>
          </p:nvSpPr>
          <p:spPr>
            <a:xfrm>
              <a:off x="2666880" y="6230880"/>
              <a:ext cx="129528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Box 15"/>
            <p:cNvSpPr/>
            <p:nvPr/>
          </p:nvSpPr>
          <p:spPr>
            <a:xfrm>
              <a:off x="4116960" y="61657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21"/>
          <p:cNvGrpSpPr/>
          <p:nvPr/>
        </p:nvGrpSpPr>
        <p:grpSpPr>
          <a:xfrm>
            <a:off x="2590920" y="1049400"/>
            <a:ext cx="6095880" cy="914400"/>
            <a:chOff x="2590920" y="1049400"/>
            <a:chExt cx="6095880" cy="914400"/>
          </a:xfrm>
        </p:grpSpPr>
        <p:sp>
          <p:nvSpPr>
            <p:cNvPr id="80" name="Oval 27"/>
            <p:cNvSpPr/>
            <p:nvPr/>
          </p:nvSpPr>
          <p:spPr>
            <a:xfrm>
              <a:off x="2590920" y="1354320"/>
              <a:ext cx="609588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Box 28"/>
            <p:cNvSpPr/>
            <p:nvPr/>
          </p:nvSpPr>
          <p:spPr>
            <a:xfrm>
              <a:off x="7394400" y="104940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24"/>
          <p:cNvGrpSpPr/>
          <p:nvPr/>
        </p:nvGrpSpPr>
        <p:grpSpPr>
          <a:xfrm>
            <a:off x="2743200" y="4859280"/>
            <a:ext cx="4934160" cy="380880"/>
            <a:chOff x="2743200" y="4859280"/>
            <a:chExt cx="4934160" cy="380880"/>
          </a:xfrm>
        </p:grpSpPr>
        <p:sp>
          <p:nvSpPr>
            <p:cNvPr id="83" name="Oval 30"/>
            <p:cNvSpPr/>
            <p:nvPr/>
          </p:nvSpPr>
          <p:spPr>
            <a:xfrm>
              <a:off x="2743200" y="4935240"/>
              <a:ext cx="137160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Box 17"/>
            <p:cNvSpPr/>
            <p:nvPr/>
          </p:nvSpPr>
          <p:spPr>
            <a:xfrm>
              <a:off x="4268520" y="4859280"/>
              <a:ext cx="34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680" indent="-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ecision maker interaction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80880" y="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Additive Weighting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ToolsByProcessPhase.JPG"/>
          <p:cNvPicPr/>
          <p:nvPr/>
        </p:nvPicPr>
        <p:blipFill>
          <a:blip r:embed="rId1"/>
          <a:stretch/>
        </p:blipFill>
        <p:spPr>
          <a:xfrm>
            <a:off x="260280" y="0"/>
            <a:ext cx="857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es of SDS Knowledge Por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wareness of resources available to assist with specific steps in decis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community sharing of decision support compon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DS Consortium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dlands Institute, University of Red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san Crow, PlaceMat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nda Faber, Fore Site Consulting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mid Ekbia, Indiana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hael Goodchild, University of California, Santa Barb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n Gordon, Interforest L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otr Jankowski, San Diego State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ren Kemp, The Kohala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hard Klosterman, What if?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icong Li, University of Red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cek Malczewski, University of Western O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ip Murphy, InfoHarvest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rew Miller, Ecological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ith Reynolds, USDA Fores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b Raskin, Jet Propulsion Labor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ul Zwick, University of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mplishments and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ed the knowledge of S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controlled vocabulary for SDS among a user 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browsing and searching useful resources for SDS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tion of data and model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fu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tion of modular components that can be implemented as a workflow via web servic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fu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tial Decision Support (SDS) Knowledge Por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atic representation of body of knowledge of S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otes semantic clarity of concepts commonly used in spatial decis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es and facilitates access to commonly used resources that aid in solving spatial decis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and maintained by the Spatial Decision Support Consort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institute.redlands.edu/s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Spatial Decision Support (S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atial decision supp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computational or informational assistance for making better informed decisions about problems with a geographic or spatial component. This support assists with the development, evaluation and selection of proper policies, plans, scenarios, projects, interventions, or solution strateg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multiple stakeholders or decision makers with conflicting inte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ly all decision problems involving Earth science data are spatial-re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ange is spatially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ty Needs for Spatial Decision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usable, modular tools/services that can be put together easily to form a spatial decision support system (SDS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SDS systems and tools developed to date are not reus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approach is to develop from scratch for specific project or applic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omponents may be common across projects, decision problem types, and application domai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existing spatial decision support systems and tools in terms of their appropriateness and interoper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stand and formalize the fundamental granules of the spatial decision process and related pheno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vocabulary and framework for semantic cl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ities of Spatial Decision M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ility (uncertainty) of geophysical inpu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 multi-dimensional and heterogeneous data and models describing decision sit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formats, including: numerical, map, image, text, and other form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number of available alternatives or a need to generate decision alternatives "on the fly" according to the changing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participants with different and often conflicting intere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categories of knowledge involved, including expert knowledge and layman knowled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owledge-Bas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e the knowledge in SDS to represent/formalize the meanings and relations of SDS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easy access to the SDS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ove the robustness of the fra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ilitate interoperability with other existing conceptual models through standardization of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decision process, phases and steps, work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S related concept definitions and inter-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SDS resources using concepts in the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 of concepts into a set of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onical Decision Process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essment, planning, legal/institutional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ods and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, models, and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ftware and other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, participation, and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ences, literature, case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is everything rela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457200"/>
          <a:ext cx="8153280" cy="6264360"/>
        </p:xfrm>
        <a:graphic>
          <a:graphicData uri="http://schemas.openxmlformats.org/drawingml/2006/table">
            <a:tbl>
              <a:tblPr/>
              <a:tblGrid>
                <a:gridCol w="1600200"/>
                <a:gridCol w="6553080"/>
              </a:tblGrid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po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finition of spatial decision support, the related fields of study, the basic concepts related to the notion of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cision con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he context in which to frame a decision: decision problem types, application domains, institutional, legal, social, cultural, geographic contexts of a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patial decision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nowledge about spatial decision processes: major phases and sub steps during a structured spatial decision process; typical spatial decision process workflows for different application do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thods and techn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thods and techniques used during a spatial decision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chnology available for SDS, including equipment and software, especially the spatial decision support systems and tools.  Related information on information systems, general SDSS functiona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cision participants and r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llaborative dimension of decision making process, decision process participant r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omain data, models and knowled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ata, processes, process mod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ou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DS software systems and tools, related literature, case studies, related websites, data sources, data models, decision process workflow templates, organizations and people referred to elsewhere in the ont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Registration of a Method (algorith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ision typ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inpu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outpu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ision process phases/ste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ision maker interaction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umptions and limi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6:25:21Z</dcterms:created>
  <dc:creator>Rob Raskin</dc:creator>
  <dc:description/>
  <cp:keywords/>
  <dc:language>en-US</dc:language>
  <cp:lastModifiedBy>Rob Raskin</cp:lastModifiedBy>
  <dcterms:modified xsi:type="dcterms:W3CDTF">2009-07-13T06:31:09Z</dcterms:modified>
  <cp:revision>10</cp:revision>
  <dc:subject/>
  <dc:title>Spatial Decision Support Consortium</dc:title>
</cp:coreProperties>
</file>